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B35BDC-73B2-499E-ACCD-7A037152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1A01B-6245-4A92-A3A6-5F6245FB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9DA72A-4D61-4FA9-96EE-255FAC3A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A80B3B-4AF5-4AAD-A608-42355131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14BEB-F404-40B3-84A0-D59250F5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3A6006-D226-40DD-A41C-FFF94F0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A7F60-DD8F-4F6B-BCAC-FCCE330D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16128-6D33-4956-B4B2-D504829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43C466-9A10-4BFE-87CF-73E607763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19AE3-59D3-4D72-9D99-09F0BE1A50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967D2-F800-40CB-AD9A-BD488B44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00648-AEF4-44F6-9AD4-AF99A59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A056-78EA-4FDE-BD0B-21F20776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53982-F8D8-41D8-8F7F-9B98EEEC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32021-F638-486C-8B03-C8D8F164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D063-4D7C-4AC6-ABBD-09CEABD5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F6E6-D60E-422C-A9E5-9A2DF228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6A678-B1A3-449D-9D5C-EE62B3FB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8880D-F884-41BD-B9B9-E541F169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EA250-5990-40E8-A4E3-BC7D7A84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B7E4-85B6-442D-93F8-80D45AF83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1FC27-5D73-4F3B-A1F0-3E36FF0BF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7E714-7ED4-4976-B817-E053CE97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E521A-D72B-462E-A78F-BD83158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3D35D-2B07-46AB-AD7C-2FE2A53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50796-9873-4C64-8DD8-2D0255D7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1D8A9-F4E2-4493-B5A9-B09EC5A7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FA374-B26C-44C4-A7A4-47AE9F7A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36527-04D0-4C71-847E-DB3780EC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A1C8E-AA7F-4414-8E92-2CF5E2CF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32B3-E28B-466A-8AAB-5092C698F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EEA3D-2513-458F-AD61-8FE64DB9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26666-F173-4C69-A6E1-04DC4B6C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6D5CE-B6BA-4BB5-A7AD-59C9F3310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2B0D91-7A96-41A0-BC47-C2F945193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437A4D-884E-485F-8986-A4B31B23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CB1330-311B-4C43-AC58-6EE3F6B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B761DE-4586-42D7-9C1A-97B9C06A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1C99F6-977D-4F88-B940-4E2E2D63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8B15F4-52CA-4102-9907-4C144DF3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A00AD8-535B-40A8-838E-7C92E7EE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EFB8-F58A-4B21-908C-FB0EAE19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634F02-EA12-4967-94C4-D238A1B4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A1733A-4632-4CC0-97E2-DE7CD58D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731532-8582-4C68-9CC1-B7041AA5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79E24A-4512-4C5A-867F-ECAE5A95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368A87-10D8-4A0F-AB98-5A001D566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FB86-87D1-46C1-9FA0-F6DBDB5A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0736-E143-4765-B34A-4D9D2E84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CBD8-1BF4-4140-8B03-7897CFA0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E868-F691-494A-8021-5C3EDB73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8981-E3A9-4E5C-B9C2-5A0C5E98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E5AD-654D-45AE-9539-97996FD0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710F-CD9A-4F88-95DD-83BC37EE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F312-704A-400C-A107-50B04F48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CA6B-CE33-4BA3-9D26-F3EB26B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D864-46FE-418B-934F-290337EEA7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5DFDE-8C92-43CC-BE7A-AF13EFABB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05AEC-507A-4B19-BCCB-D9D5BCE0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2BFF-3099-4516-A731-69122945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C0828-F305-4786-A013-23DB8555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9992B-F116-45E3-8366-367B499A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9E5AB-770B-4D4E-AFCC-E1C35435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333AB-F5E9-4CDA-90AF-C858B3AE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DB1E2-966F-4F80-8D37-15FE1CB6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29AEF-EA4B-43EE-8684-77E5AD83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32509-22C5-4A49-BCA1-F4C14E92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166F6-7CCB-4703-BC68-509564A2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E4E30-2A0A-46A4-B89E-D79A394D51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A7A8-F274-447D-B04E-10092C3E2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F4A9-22B9-4958-8333-04A7D963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AEF7-406E-4E83-AACC-C38A49D1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2A65-DA4F-4274-91E9-AB6C078A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1D26-0C09-4BB2-987A-C5420DAB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A2D5-0006-4EA3-A9B0-F17EDD7D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DEA1-1190-4F5C-92F7-020228CD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2CC2-2835-4C23-B2C9-EAF118F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7A71-71BB-4ED9-8E41-9C6C9F74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F6F4-182F-41E9-9464-9B4D9E58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76F2-CBA1-4573-BB2B-C0254EF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0B94-7EE6-48B5-9900-CA6D40EFC0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9BB43-FD15-441D-A01B-40809845A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DD807-D9DD-4871-B25E-F50E6F47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DAD8F-D6D0-489A-B6F6-9F65725B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AD0C4-77BE-4484-9684-B19E52D3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A8A16-AB89-48CA-B803-0B82773F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02C63-DA5B-4312-849C-90EB7277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2D0EE-D5AB-4060-AA4B-4E29313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95D4D-29D6-4765-BD49-73A2E19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02CD8-D0C8-4616-98F0-6B7C88CA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BB6E6-79A4-422F-AF6D-ABB7C8E7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6394D-BCD5-4786-94A9-E2B79F5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3B277-692C-42DA-B79F-1111A345A4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CBA33-3951-4C2A-A497-299FF34214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4FE1C-5D54-47D5-A124-D3EE2FC2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901BF-1C38-475E-8A31-D43F44B9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5BA4D-CBA7-4B93-8AC6-AB020C62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67475-A873-42A3-8A1D-261DA258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DB711-6606-482F-90CB-E3DAD5E5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CA71D-8AA2-4256-AE82-20A264D2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3965D-4CAA-4C84-9FD9-ECA3C4FC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45B9E-E2D9-4260-8214-6BED8B83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48110-02C6-4F6E-B474-F6432126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D57B8-B0B8-47D6-A9BE-04FD7983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0FCEE-472C-45E3-9C6D-713488AA84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64F7-A4A6-4C42-8115-824AA3CB7A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FD307-D792-438B-A497-5640D16B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1116-C0F8-4EE5-B13D-39A91E19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5723-A319-4456-8F78-AD68D8B4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75C9-B6EA-44FF-929D-53DC9153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C3C0-D273-4E6E-AA1A-D75BD720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D781-8BCD-42E8-A4E9-07375CDD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78A2-63AD-4B93-99BC-54BEBBCD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1AA9-387F-4D3A-A703-04AE12E0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3BB5-9EA9-4DC4-94BB-66FB0D81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6584-2613-4D5D-A593-FD3C73D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7DAAB-177E-4FFF-B71A-7BAE94592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0E57E-09B4-4AF6-A31A-D063387A1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EE286-6002-41C2-873B-95299D6A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FDC5F-0F08-48C4-837F-019FB467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E6976-D090-4C59-9CB6-B2519851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93DE9-7734-461E-8FB6-24E1432B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7B188-AFA5-44ED-A575-7E5552B5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AAF08-0C33-496A-A350-1BCDD765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CC4D2-9658-4B51-BC33-87525ED4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B57BC-4B60-4F6C-A73D-8E87660F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2D1DF-AD2A-434B-8B44-E58D7E50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CE33D-9AC2-4B63-A89A-835F7994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233BB-DA1A-4E94-8AE1-E9C58E0873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A52A21-916E-47BA-AFF8-593832F96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EC6E68-23C7-45B4-B06E-1FD57170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2198E3-8A6A-43CE-8B25-12FDB870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4D146D-7985-4AC0-9E26-2803132B5713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5841A5-C551-4D38-8BA0-0F221038CBA0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737358-8FAD-4253-AB14-0A64ED73E5D6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2F9141-5254-486B-AC35-164CFCC161B3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B717CC-8E99-4D04-A7CE-CD3D63F849A8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56238C-1452-4927-90DA-0831BD2F5BBF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2012A2-A538-45B1-8223-CF8B9F046FF3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F456A7-BC93-4332-B463-F1AB99FF158A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CC39EE-89FC-487F-9803-1E73D4EEE9C6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155740-FA53-4B1D-8778-61B84E31445A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906EAD-FB73-4752-A0A3-B36B555AC7A7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icardo.andrade@ana.gov.br" TargetMode="External"/><Relationship Id="rId2" Type="http://schemas.openxmlformats.org/officeDocument/2006/relationships/hyperlink" Target="mailto:cesar.pimentel@ana.gov.br" TargetMode="External"/><Relationship Id="rId3" Type="http://schemas.openxmlformats.org/officeDocument/2006/relationships/hyperlink" Target="mailto:rodrigo.carvalho@mma.gov.br" TargetMode="External"/><Relationship Id="rId4" Type="http://schemas.openxmlformats.org/officeDocument/2006/relationships/hyperlink" Target="mailto:Luciane.loutrenco@mma.gov.br" TargetMode="External"/><Relationship Id="rId5" Type="http://schemas.openxmlformats.org/officeDocument/2006/relationships/hyperlink" Target="mailto:dchristofidis@gmail.com" TargetMode="External"/><Relationship Id="rId6" Type="http://schemas.openxmlformats.org/officeDocument/2006/relationships/hyperlink" Target="mailto:dchristofidis@gmail.com" TargetMode="External"/><Relationship Id="rId7" Type="http://schemas.openxmlformats.org/officeDocument/2006/relationships/hyperlink" Target="mailto:dchristofidis@gmail.com" TargetMode="External"/><Relationship Id="rId8" Type="http://schemas.openxmlformats.org/officeDocument/2006/relationships/hyperlink" Target="mailto:emiranda@cidades.pmss.gov.br" TargetMode="External"/><Relationship Id="rId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25360" y="6093000"/>
            <a:ext cx="86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novembro d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2344680"/>
            <a:ext cx="8686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rograma de Desenvolvimento do Setor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520" y="433440"/>
            <a:ext cx="319248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8600" y="1981080"/>
            <a:ext cx="8686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da da ANA em Águas Subterrân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da da ANA em Usos Sustentável de Água e Sol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Produtor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tlas de Abastecimento de Água e sistema de acompanhamento e atualiz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Nacional de Resíduos Sólidos Urb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e Proteção aos Mananciais Urb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37016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A –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28600" y="1981080"/>
            <a:ext cx="8686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o Nacional de Infraestrutura Híd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esenvolvimento da Agricultura Irrig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renagem Urbana e Controle de Erosão Marítima e Fluv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a Política Nacional de Irrig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de estudos de viabilidade técnica, econômico-social, financeira e 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de planos de segurança de barr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ejamento de ações para prevenção e controle de eventos crít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3748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B – Irrigação, Infraestrutura e Defes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1981080"/>
            <a:ext cx="86868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a Política de Saneamento, nos termos da Lei nº 11.445/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antação do Sistema Nacional de Informações em Saneamento Básico – SIN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mpliação da Rede Nacional de Capacitação e Extensão Tecnológica em Saneamento Ambiental – ReCE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pansão do Sistema Integrado de Gestão de Serviços de Saneamento – GS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o Plano Nacional de Saneamento Bás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C – Sane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28600" y="1981080"/>
            <a:ext cx="86868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jeto de Racionalização do Uso da Água na Agricul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ções de revitalização de bacias hidrográf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ejamento integrado e regulação em recursos hídricos e saneamento; em energia e navegação; eficiência energética nos serviços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tibilização de hidrovias e aproveitamentos hidrelétr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tibilização e integração de procedimentos de licenciamento ambiental - reunindo estudos de aproveitamentos hidrelétricos, planos estratégicos de bacias hidrográficas, avaliação ambiental integ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D – Ações em Bacias Sele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28600" y="19810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ompanhamento das ações, de modo a assegurar o cumprimento das metas, dos cronogramas e dos objetiv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nanciamento das atividades das unidades de gerenci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senvolvimento e implantação de sistema de monitoramento e avali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e implementação do Plano de Comun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E – Monitoramento e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r" pos="86979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Valores </a:t>
            </a: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(US$ mil)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18960" y="1800360"/>
            <a:ext cx="8507520" cy="1774800"/>
            <a:chOff x="318960" y="1800360"/>
            <a:chExt cx="8507520" cy="1774800"/>
          </a:xfrm>
        </p:grpSpPr>
        <p:sp>
          <p:nvSpPr>
            <p:cNvPr id="618" name=""/>
            <p:cNvSpPr/>
            <p:nvPr/>
          </p:nvSpPr>
          <p:spPr>
            <a:xfrm>
              <a:off x="318960" y="1800360"/>
              <a:ext cx="4162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POR COMPONEN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81640" y="18003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Emprésti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29200" y="18003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ntrapart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77120" y="18003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960" y="2022480"/>
              <a:ext cx="1479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98560" y="2022480"/>
              <a:ext cx="2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43000" y="2022480"/>
              <a:ext cx="2438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Recursos Hídr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81640" y="202248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3.2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29200" y="20224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1.07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77120" y="20224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4.3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8960" y="2243160"/>
              <a:ext cx="1479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98560" y="2243160"/>
              <a:ext cx="244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3000" y="2243160"/>
              <a:ext cx="2438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Infraestrutura Hídric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81640" y="22431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0.8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29200" y="22431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6.95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77120" y="22431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7.8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960" y="2465280"/>
              <a:ext cx="14796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98560" y="2465280"/>
              <a:ext cx="2444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43000" y="2465280"/>
              <a:ext cx="24386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anea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81640" y="2465280"/>
              <a:ext cx="14475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4.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29200" y="2465280"/>
              <a:ext cx="14479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8.1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77120" y="2465280"/>
              <a:ext cx="14479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2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960" y="2687760"/>
              <a:ext cx="1479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98560" y="2687760"/>
              <a:ext cx="2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43000" y="2687760"/>
              <a:ext cx="2438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Ações Intersetor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81640" y="268776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5.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29200" y="268776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5.25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77120" y="268776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1.0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960" y="2908440"/>
              <a:ext cx="1479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98560" y="2908440"/>
              <a:ext cx="244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43000" y="2908440"/>
              <a:ext cx="2438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onitoramento e Avaliaç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81640" y="290844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.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29200" y="290844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1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7120" y="290844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8960" y="3130560"/>
              <a:ext cx="41626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81640" y="31305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97.5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29200" y="31305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32.5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7120" y="31305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30.1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81640" y="335268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29200" y="33526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5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33526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0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8164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29200" y="1800360"/>
              <a:ext cx="180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7712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8960" y="202248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960" y="22431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8960" y="2465280"/>
              <a:ext cx="8506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8960" y="26877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8960" y="290844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8960" y="31305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81640" y="3352680"/>
              <a:ext cx="43434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8960" y="1800360"/>
              <a:ext cx="180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2504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8960" y="18003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960" y="3573360"/>
              <a:ext cx="8506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79280" y="4219560"/>
            <a:ext cx="8821800" cy="1541520"/>
            <a:chOff x="179280" y="4219560"/>
            <a:chExt cx="8821800" cy="1541520"/>
          </a:xfrm>
        </p:grpSpPr>
        <p:sp>
          <p:nvSpPr>
            <p:cNvPr id="674" name=""/>
            <p:cNvSpPr/>
            <p:nvPr/>
          </p:nvSpPr>
          <p:spPr>
            <a:xfrm>
              <a:off x="179280" y="4219560"/>
              <a:ext cx="432288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POR EXECUT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02160" y="4219560"/>
              <a:ext cx="337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MPON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72480" y="4219560"/>
              <a:ext cx="112716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2160" y="444024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26080" y="444024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Inter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50000" y="444024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Monito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9280" y="4659480"/>
              <a:ext cx="26701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inistério do Meio Ambiente 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9640" y="4659480"/>
              <a:ext cx="16225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Recursos Hídr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02160" y="465948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4.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26080" y="465948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50000" y="4659480"/>
              <a:ext cx="11224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72480" y="4659480"/>
              <a:ext cx="11271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52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9280" y="4879800"/>
              <a:ext cx="2670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49400" y="4879800"/>
              <a:ext cx="201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52800" y="4879800"/>
              <a:ext cx="1449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Infraestru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02160" y="487980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7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26080" y="487980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50000" y="487980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72480" y="4879800"/>
              <a:ext cx="112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6.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9280" y="5099040"/>
              <a:ext cx="2670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inistério das Cida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49400" y="5099040"/>
              <a:ext cx="201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2800" y="5099040"/>
              <a:ext cx="1449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anea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02160" y="5099040"/>
              <a:ext cx="1123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2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26080" y="5099040"/>
              <a:ext cx="1123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0000" y="5099040"/>
              <a:ext cx="11224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72480" y="5099040"/>
              <a:ext cx="1127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9280" y="5319720"/>
              <a:ext cx="4322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02160" y="531972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04.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26080" y="531972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2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50000" y="531972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4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72480" y="5319720"/>
              <a:ext cx="112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30.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02160" y="553896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8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26080" y="553896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6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50000" y="5538960"/>
              <a:ext cx="11224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72480" y="5538960"/>
              <a:ext cx="11271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0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0216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26080" y="4440240"/>
              <a:ext cx="1440" cy="13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50000" y="4440240"/>
              <a:ext cx="1800" cy="13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7248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2160" y="4440240"/>
              <a:ext cx="3370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9280" y="465948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9280" y="4879800"/>
              <a:ext cx="8820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9280" y="509904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9280" y="531972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02160" y="5538960"/>
              <a:ext cx="44974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9280" y="4219560"/>
              <a:ext cx="180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99964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9280" y="421956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9280" y="5759280"/>
              <a:ext cx="8820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6680" y="4873680"/>
            <a:ext cx="30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nistério da Integração Nacional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28600" y="2933640"/>
            <a:ext cx="86472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dade de Preparação do Programa – UPP, instituída pela Resolução ANA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555, de 11 de agosto de 2009, que tem como funções princip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entralizar o planej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companhar a preparação das atividades dos componentes setoriai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ordenar a preparação das atividades do componente interse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ação dos membros representantes de cada Executor, por meio da Portaria ANA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21, de 13 de outubro d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1998720"/>
            <a:ext cx="8686800" cy="83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arta-Consulta aprovada pela COFIEX na 83ª Reun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comendação nº 1118, 13 de julh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ituaçã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ronograma da Preparaçã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2301840"/>
            <a:ext cx="868680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zembro 2009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ovação do Programa pel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Banco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ço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ovação do Programa pel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enado Fed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bril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Lançamento dos Edita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 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lho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nício das contrataçõ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s ações do primeiro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Datas estimadas pela Equipe de Preparação – UPP e 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emissas para identificação de 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8600" y="1981080"/>
            <a:ext cx="8686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abrangência do INTERÁGUAS é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todo o território nacion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be a cada executor definir a concentração das sua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ções setoria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cessidade de concentrar a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ções intersetoria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priorizando áreas com insuficiência no planejamento e gest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136836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" y="5057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00000"/>
              </a:lnSpc>
              <a:tabLst>
                <a:tab algn="l" pos="0"/>
                <a:tab algn="l" pos="5396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bs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 a concentração das ações intersetoriais, foram selecionadas duas bacias para as ações setoriais prioritárias: São Francisco e Araguaia-Tocant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formaçõe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3730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TERSETORI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1981080"/>
            <a:ext cx="86472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ações intersetoriais envolvem mais de uma instituição ou ministé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ndo se tratar de um ou mais dos ministérios executores do Programa, as ações serão coordenadas pelo executor que tiver maior afinidade com a ação pretendida, a critério do Comitê Ge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derão ser envolvidos, em casos específicos, outras instituições que não façam parte dos ministérios executores. Nesses casos, a ação intersetorial seria coordenada pelo ministério exec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" y="1660680"/>
            <a:ext cx="86868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1.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s Usos Múltiplos da Ág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Justif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incipais Executores e Instituições Potencialmente Envolv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rranjo Institucio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emplos de Ações Prev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Valores (em US$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Sum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54176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2.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tuação A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onograma da Preparação – Estim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emissa para identificação das 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ações Complement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embros Integrantes da Unidade de Preparação do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formaçõe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13730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TERSETORI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8600" y="1981080"/>
            <a:ext cx="86472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ações mais complexas, envolvendo várias instituições, poderá ser necessário estruturar um grupo de trabalho formal, como é o caso do planejamento conjunto de empreendimentos hidrelétricos e navegação fluv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jetos já em desenvolvimento pelos ministérios executores poderão derivar para ações a serem parcial ou totalmente apoiadas pelo Interágu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ecretaria Técnica do Programa, integrada pelos três ministérios executores, estará atenta para evitar que haja superposição de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Unidade de 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28600" y="1619280"/>
            <a:ext cx="8688240" cy="4707000"/>
            <a:chOff x="228600" y="1619280"/>
            <a:chExt cx="8688240" cy="4707000"/>
          </a:xfrm>
        </p:grpSpPr>
        <p:sp>
          <p:nvSpPr>
            <p:cNvPr id="749" name=""/>
            <p:cNvSpPr/>
            <p:nvPr/>
          </p:nvSpPr>
          <p:spPr>
            <a:xfrm>
              <a:off x="228600" y="1619280"/>
              <a:ext cx="8686800" cy="4143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Membros integrantes da U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" y="2033640"/>
              <a:ext cx="8686800" cy="41436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Agência Nacional de Águ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8600" y="2448000"/>
              <a:ext cx="4343400" cy="68724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icardo Medeiros de Andr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1"/>
                </a:rPr>
                <a:t>ricardo.andrade@an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72000" y="2448000"/>
              <a:ext cx="4343400" cy="68724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Cesar Eduardo Bertozzo Pimen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 u="sng">
                  <a:solidFill>
                    <a:srgbClr val="ccccff"/>
                  </a:solidFill>
                  <a:uFillTx/>
                  <a:latin typeface="Calibri"/>
                  <a:hlinkClick r:id="rId2"/>
                </a:rPr>
                <a:t>cesar.pimentel@ana.gov.b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8600" y="3135240"/>
              <a:ext cx="8686800" cy="41292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de Recursos Hídricos e Ambiente Urbano do Ministério do Meio Amb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8600" y="3548160"/>
              <a:ext cx="4343400" cy="69840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odrigo Speziali Carvalh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3"/>
                </a:rPr>
                <a:t>rodrigo.carvalho@mm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72000" y="3548160"/>
              <a:ext cx="4343400" cy="69840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Luciane Lourenç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4"/>
                </a:rPr>
                <a:t>luciane.loutrenco@mm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8600" y="4246560"/>
              <a:ext cx="8686800" cy="41292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de Infraestrutura Hídrica do Ministério da Integração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8600" y="465948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Demetrios Christofid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5"/>
                </a:rPr>
                <a:t>dchristofidis@gmai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0" y="465948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Josimar Alves de Olivei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6"/>
                </a:rPr>
                <a:t>josimar.oliveira@integracao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600" y="5284800"/>
              <a:ext cx="8686800" cy="41436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Nacional de Saneamento Ambiental do Ministério das C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8600" y="569916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Sergio Antonio Gonçal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7"/>
                </a:rPr>
                <a:t>sergio.goncalves@cidades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72000" y="569916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Ernani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8"/>
                </a:rPr>
                <a:t>ernani.miranda@cidades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0" y="2448000"/>
              <a:ext cx="1440" cy="68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2000" y="3548160"/>
              <a:ext cx="1440" cy="69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4659480"/>
              <a:ext cx="14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2000" y="5699160"/>
              <a:ext cx="14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600" y="2033640"/>
              <a:ext cx="8686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" y="244800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600" y="3135240"/>
              <a:ext cx="8686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600" y="35481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8600" y="42465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8600" y="465948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600" y="528480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8600" y="56991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600" y="1619280"/>
              <a:ext cx="1440" cy="470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915400" y="1619280"/>
              <a:ext cx="1440" cy="470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600" y="161928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8600" y="6324480"/>
              <a:ext cx="8686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990720"/>
            <a:ext cx="9144000" cy="399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2879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Obrig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8960" y="3149640"/>
            <a:ext cx="850608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s Usos Múltiplos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852360" y="5208480"/>
            <a:ext cx="1476000" cy="1354680"/>
            <a:chOff x="3852360" y="5208480"/>
            <a:chExt cx="1476000" cy="1354680"/>
          </a:xfrm>
        </p:grpSpPr>
        <p:sp>
          <p:nvSpPr>
            <p:cNvPr id="535" name=""/>
            <p:cNvSpPr/>
            <p:nvPr/>
          </p:nvSpPr>
          <p:spPr>
            <a:xfrm>
              <a:off x="3852360" y="628668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Recreação e Tur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3875040" y="5208480"/>
              <a:ext cx="143820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"/>
          <p:cNvGrpSpPr/>
          <p:nvPr/>
        </p:nvGrpSpPr>
        <p:grpSpPr>
          <a:xfrm>
            <a:off x="6607080" y="1800360"/>
            <a:ext cx="1739880" cy="1354320"/>
            <a:chOff x="6607080" y="1800360"/>
            <a:chExt cx="1739880" cy="1354320"/>
          </a:xfrm>
        </p:grpSpPr>
        <p:sp>
          <p:nvSpPr>
            <p:cNvPr id="538" name=""/>
            <p:cNvSpPr/>
            <p:nvPr/>
          </p:nvSpPr>
          <p:spPr>
            <a:xfrm>
              <a:off x="6607080" y="2878200"/>
              <a:ext cx="173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Abasteciment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>
              <a:off x="6750000" y="1800360"/>
              <a:ext cx="144000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"/>
          <p:cNvGrpSpPr/>
          <p:nvPr/>
        </p:nvGrpSpPr>
        <p:grpSpPr>
          <a:xfrm>
            <a:off x="3822840" y="1800360"/>
            <a:ext cx="1447560" cy="1357560"/>
            <a:chOff x="3822840" y="1800360"/>
            <a:chExt cx="1447560" cy="1357560"/>
          </a:xfrm>
        </p:grpSpPr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3822840" y="1800360"/>
              <a:ext cx="143964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3822840" y="28814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Irrig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844920" y="1800360"/>
            <a:ext cx="1684800" cy="1357560"/>
            <a:chOff x="844920" y="1800360"/>
            <a:chExt cx="1684800" cy="1357560"/>
          </a:xfrm>
        </p:grpSpPr>
        <p:sp>
          <p:nvSpPr>
            <p:cNvPr id="544" name=""/>
            <p:cNvSpPr/>
            <p:nvPr/>
          </p:nvSpPr>
          <p:spPr>
            <a:xfrm>
              <a:off x="844920" y="2881440"/>
              <a:ext cx="168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Abastecimento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4"/>
            <a:stretch/>
          </p:blipFill>
          <p:spPr>
            <a:xfrm>
              <a:off x="974880" y="1800360"/>
              <a:ext cx="1439640" cy="1079280"/>
            </a:xfrm>
            <a:prstGeom prst="rect">
              <a:avLst/>
            </a:prstGeom>
            <a:ln w="25560">
              <a:solidFill>
                <a:srgbClr val="4f81bd"/>
              </a:solidFill>
              <a:miter/>
            </a:ln>
          </p:spPr>
        </p:pic>
      </p:grpSp>
      <p:grpSp>
        <p:nvGrpSpPr>
          <p:cNvPr id="546" name=""/>
          <p:cNvGrpSpPr/>
          <p:nvPr/>
        </p:nvGrpSpPr>
        <p:grpSpPr>
          <a:xfrm>
            <a:off x="957240" y="3524400"/>
            <a:ext cx="1461960" cy="1354320"/>
            <a:chOff x="957240" y="3524400"/>
            <a:chExt cx="1461960" cy="1354320"/>
          </a:xfrm>
        </p:grpSpPr>
        <p:sp>
          <p:nvSpPr>
            <p:cNvPr id="547" name=""/>
            <p:cNvSpPr/>
            <p:nvPr/>
          </p:nvSpPr>
          <p:spPr>
            <a:xfrm>
              <a:off x="957240" y="4602240"/>
              <a:ext cx="146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Naveg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971640" y="3524400"/>
              <a:ext cx="143964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1015920" y="5208480"/>
            <a:ext cx="1440000" cy="1360800"/>
            <a:chOff x="1015920" y="5208480"/>
            <a:chExt cx="1440000" cy="1360800"/>
          </a:xfrm>
        </p:grpSpPr>
        <p:sp>
          <p:nvSpPr>
            <p:cNvPr id="550" name=""/>
            <p:cNvSpPr/>
            <p:nvPr/>
          </p:nvSpPr>
          <p:spPr>
            <a:xfrm>
              <a:off x="1021680" y="6292800"/>
              <a:ext cx="140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Pesca e Aqui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1015920" y="5208480"/>
              <a:ext cx="1440000" cy="1081080"/>
            </a:xfrm>
            <a:prstGeom prst="rect">
              <a:avLst/>
            </a:prstGeom>
            <a:ln w="25560">
              <a:solidFill>
                <a:srgbClr val="4f81bd"/>
              </a:solidFill>
              <a:miter/>
            </a:ln>
          </p:spPr>
        </p:pic>
      </p:grpSp>
      <p:grpSp>
        <p:nvGrpSpPr>
          <p:cNvPr id="552" name=""/>
          <p:cNvGrpSpPr/>
          <p:nvPr/>
        </p:nvGrpSpPr>
        <p:grpSpPr>
          <a:xfrm>
            <a:off x="6778800" y="5208480"/>
            <a:ext cx="1485360" cy="1352880"/>
            <a:chOff x="6778800" y="5208480"/>
            <a:chExt cx="1485360" cy="1352880"/>
          </a:xfrm>
        </p:grpSpPr>
        <p:pic>
          <p:nvPicPr>
            <p:cNvPr id="553" name="" descr=""/>
            <p:cNvPicPr/>
            <p:nvPr/>
          </p:nvPicPr>
          <p:blipFill>
            <a:blip r:embed="rId7">
              <a:lum contrast="12000"/>
            </a:blip>
            <a:stretch/>
          </p:blipFill>
          <p:spPr>
            <a:xfrm>
              <a:off x="6800760" y="5208480"/>
              <a:ext cx="14400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778800" y="6284880"/>
              <a:ext cx="148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Diluição de Eflu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822840" y="3524400"/>
            <a:ext cx="1447560" cy="1360440"/>
            <a:chOff x="3822840" y="3524400"/>
            <a:chExt cx="1447560" cy="1360440"/>
          </a:xfrm>
        </p:grpSpPr>
        <p:sp>
          <p:nvSpPr>
            <p:cNvPr id="556" name=""/>
            <p:cNvSpPr/>
            <p:nvPr/>
          </p:nvSpPr>
          <p:spPr>
            <a:xfrm>
              <a:off x="3822840" y="4608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Hidroeletric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8"/>
            <a:stretch/>
          </p:blipFill>
          <p:spPr>
            <a:xfrm>
              <a:off x="3822840" y="3524400"/>
              <a:ext cx="143964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6753240" y="3524400"/>
            <a:ext cx="1447920" cy="1359000"/>
            <a:chOff x="6753240" y="3524400"/>
            <a:chExt cx="1447920" cy="1359000"/>
          </a:xfrm>
        </p:grpSpPr>
        <p:sp>
          <p:nvSpPr>
            <p:cNvPr id="559" name=""/>
            <p:cNvSpPr/>
            <p:nvPr/>
          </p:nvSpPr>
          <p:spPr>
            <a:xfrm>
              <a:off x="6753240" y="46069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Controle de Che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9"/>
            <a:stretch/>
          </p:blipFill>
          <p:spPr>
            <a:xfrm>
              <a:off x="6753240" y="3524400"/>
              <a:ext cx="144000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28600" y="1557360"/>
            <a:ext cx="86472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cessidade de busc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melhor articulação e coordenação de ações no setor águ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usos múltiplos dos recursos e serviços associad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mbiente integrador, com autonomia e flexibilidad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os setores participantes, tanto na proposição quanto na execução das 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ntinuidade a programas setoriais exitoso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PMSS, PROÁGUA, etc.) e tratamento mais explícito de temas transversais priorit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talecer iniciativas d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rticulação intersetorial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á em cur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buscando maior eficiência na implementação e respostas mais ráp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28600" y="1565280"/>
            <a:ext cx="864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grama a ser viabilizado por meio de um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cordo de empréstimo com o Banco Mund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cujo objetivo é dar suporte à implementação de políticas e planos nacionais no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etor águ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apoiando programas setoriais específicos e facilitando o tratamento integrado de temas transversais de intere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8960" y="442440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8272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or do Empréstimo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é US$ 95.575.000,00 (75%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8960" y="562932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or total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até US$ 130.1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8960" y="4876920"/>
            <a:ext cx="855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8272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rapartida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até US$ 32.525.000,00 (25%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República Federativa d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8960" y="608184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zo de Execução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5 (cinco) 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1335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ibuir para o fortalecimento da capacidade de planejamento e gestão no setor água, vis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39640" y="2160720"/>
            <a:ext cx="8325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mentar a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ficiência no uso da água e na prestação de serviço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mentar a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ferta sustentável de água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quantidade e qualidade adequadas aos usos múltiplo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lhorar a aplicação de recursos público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etor água, com a consequent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dução de deseconomia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usadas por deficiências na articulação e na coordenação intersetor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5580000"/>
            <a:ext cx="8820360" cy="1191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ta-se de um programa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xclusivamente</a:t>
            </a:r>
            <a:r>
              <a:rPr b="1" lang="en-GB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oltado para o  </a:t>
            </a:r>
            <a:br>
              <a:rPr sz="2400"/>
            </a:b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lanejamento e gestão no setor água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ão possuindo recursos para ob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incipais Exec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" y="1582560"/>
            <a:ext cx="864720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de Recursos Hídricos e Ambiente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gência Nacional de Á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Integração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de Infraestrutura Híd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Nacional de Defes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s C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Nacional de Saneament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415296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stituições Potencialmente Envol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737240"/>
            <a:ext cx="8647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e Minas e Ene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s Trans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Agricultura, Pecuária e Abast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 Desenvolvimento Agr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Saúde - FUN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rranj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318960" y="1538280"/>
            <a:ext cx="6786720" cy="4977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105680" y="1851120"/>
            <a:ext cx="1628640" cy="83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mbros Consul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ME - MT - MA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0040" y="1619280"/>
            <a:ext cx="8325000" cy="1123920"/>
          </a:xfrm>
          <a:prstGeom prst="rect">
            <a:avLst/>
          </a:prstGeom>
          <a:noFill/>
          <a:ln w="190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1533600"/>
            <a:ext cx="8647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A –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B – Irrigação, Infraestrutura e Defes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C – San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D – Ações em Bacias Sele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E – Monitoramento 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1480" y="4511520"/>
            <a:ext cx="7510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da um dos três primeiros componentes desdobra-se em três subcompone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Planejamento e Gest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Estudos e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Fortalecimento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ardo.andrade</dc:creator>
  <dc:description/>
  <dc:language>en-US</dc:language>
  <cp:lastModifiedBy>Ricardo</cp:lastModifiedBy>
  <cp:revision>0</cp:revision>
  <dc:subject/>
  <dc:title>Slide 1</dc:title>
</cp:coreProperties>
</file>